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623-56E2-466F-BE28-EB5B9672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919-30B3-4621-843A-144E51BC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3AE-2E13-48CE-9AEA-8C62C394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B1F-C5AB-4AA8-9CB8-CD11250B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D459-51D3-4A4D-9C89-88C29DC1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CF19-8963-4B24-81D4-D08535C2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23BF-2E96-4E6A-A1E3-43599380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D13A-C0ED-469E-AEFC-B22846BC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81F7-6AA9-4DF8-96EE-26953DF9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DEFB-89E7-453A-BAF5-2876EEA8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4810-C8CA-44AC-B1A1-CF7CB2CF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FBD-724D-4825-80AB-42CB5F2B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700D-9AA2-4616-A3E7-56CF43C2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27AE-6BD4-419F-8C11-014C1088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4140-8A3C-47F2-BDC9-B5EED576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7899-7E3D-4D54-B286-9CBEB792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302A-4963-4DF7-BCFF-72172A63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18B-2E74-45EA-9483-129B5C53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C42-5432-40E9-97B1-D59A08A0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257-A41F-49E6-BE43-D6801B32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150-7C72-416E-807A-7E3172A6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7B74-69E1-4407-B019-29B7ACA8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D2E-5E86-4BDA-8608-83F23A88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356-7194-4E52-886E-6B03C4CE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A2D4-E7E5-472D-BE15-97ECB4387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7BDC-245F-46DD-8C4E-15C27ED5F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br>
              <a:rPr sz="4400"/>
            </a:br>
            <a:r>
              <a:rPr b="1" lang="en-CA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History of Atomic Model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critu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ll things are composed of minute, invisible, and indivisible particles, atoma (indivisibles) in constant motion through otherwise empty space. Ke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r Joseph John Thompson 1900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analyzed the nature of cathode 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he reduced that they had particles like properties and were identical regardless of the material producing the r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m-Pudding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Lord Kelvin and JJ Thompson concluded that the atom was composed of tiny negatively charged electrons and positive charge mixed together.  This was called the Plum-Pudding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therford Gold Foil Experiment 191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Ernst Rutherford shot alpha particle at extremely thin gold f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This result was thought to be like cannon balls bouncing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Most went right through with little deflection, but some bounced back tissue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therford Atomic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he alpha particle must have bounced off an area of the atom that is positively charged and extremely d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utherford concluded that the atom has a dense positive nucleus with electrons orbiting a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hr Model 19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ight is emitted from matter at particular energies, or qua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ight is produced when electrons moved from high energy atoms to low energy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Electrons exist at particular or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90720" y="4572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 Atomic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Quantum Mechanism shows how there is a limit to our ability to determine the motion and position of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The motion of objects is described using a wave equation Ψ (PSI), where Ψ is the probability distribution around the hydrogen atom we obtain orbital sha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de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e nucleus contains protons and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protons and neutrons are composed of qu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he strong force between the quarks is what holds the nucleus together.  The mechanism is still not well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20:55:41Z</dcterms:created>
  <dc:creator>default</dc:creator>
  <dc:description/>
  <dc:language>en-US</dc:language>
  <cp:lastModifiedBy>default</cp:lastModifiedBy>
  <dcterms:modified xsi:type="dcterms:W3CDTF">2004-04-01T21:12:48Z</dcterms:modified>
  <cp:revision>4</cp:revision>
  <dc:subject/>
  <dc:title>   History of Atomic Model </dc:title>
</cp:coreProperties>
</file>